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77BE-15E1-464F-95B4-47464D9FF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E1AB-A736-49B1-8B30-FAAC67673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8641-6661-464C-B3B0-19C94EB88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7E39-F093-421D-905C-D0A5B3232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F661-2F91-487A-95D7-0503616C9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CA6E-F455-42D1-94E1-03888DF72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A10D-FDC4-4A71-845E-9F89F9851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BD81-BBE5-47FF-8615-EB66FA56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E04D-C585-4163-A250-078F2F309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6487-5B11-4C60-BC59-20C1E9DB1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45A4-23E4-4722-9676-20698E941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F58A-F3D7-4F94-9218-7FA90AF91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E9A-3B45-42FA-B5E0-09DEB3A568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7980-0B25-4304-9FF4-2CD8517BB5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The End of Math CamPP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Is Just The Beginn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table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4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8010-63FF-43BD-B83E-AE2223C579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57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60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62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ey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-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7400" y="1828800"/>
            <a:ext cx="4975200" cy="19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22T02:36:57Z</dcterms:modified>
  <cp:revision>43</cp:revision>
  <dc:subject/>
  <dc:title>&lt;Title&gt;</dc:title>
</cp:coreProperties>
</file>